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12E-A682-40E6-993F-9FED1069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7BA-A23A-4516-9E0E-834500BC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E41-7D06-4954-B7A4-BCB2D193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D0A-1E10-4F47-A9D5-C0097FBD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2D2-18CB-40D9-A99B-0561DA49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6D61-28BB-45D8-A45E-CE8386B8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2031-FC68-4E2D-9093-6DF56D69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75C4-5741-44E9-B793-4281C283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A50-68E5-469C-B070-16BB83FD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F85-BADB-485D-AF43-29519A95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3486-06B6-4DE9-871A-D59330E0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7763-20E8-4827-BDD1-B9BACD9C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FD09-F292-46A5-83CF-85148DFD7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abstract nou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19640" y="4724280"/>
            <a:ext cx="4248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422100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1628640"/>
            <a:ext cx="547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Noth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You can’t see i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170028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3213000"/>
            <a:ext cx="64800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cc0000"/>
                </a:solidFill>
                <a:latin typeface="Arial"/>
              </a:rPr>
              <a:t>abstract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paint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t’s hard to SEE what’s in an abstract pain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941720"/>
            <a:ext cx="655164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An emotion or idea.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g:  risk, love, confusion, joy, prejud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Ministry of Education</cp:lastModifiedBy>
  <dcterms:modified xsi:type="dcterms:W3CDTF">2008-02-06T23:15:38Z</dcterms:modified>
  <cp:revision>14</cp:revision>
  <dc:subject/>
  <dc:title>Simile</dc:title>
</cp:coreProperties>
</file>